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8A045-0D16-4352-BC79-F0036D354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FDC9-E90A-4E7C-9D9B-90B9814F8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8EA2C-8F39-48D7-8FD1-893EC260A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1AB97-44A8-4CFA-A089-77FF6D242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C6758-1570-48E5-9084-3F3F4F398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EF67C-9D86-4698-91D8-44C86284B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A74D8-4A2D-4036-B058-CFEF73E9E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500CB-F7F5-4DF6-8FC8-DA53BFF24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B6D2-B199-43F9-9CD3-2FEAA482A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81229-DF26-48BC-BD7E-E74EA3382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760D-F42C-4577-9EBF-6FB5814F3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1F00-6CDE-444C-8378-E05A7335A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1F9DC-B300-40D6-97CC-1FFBB71DC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429F8-C851-42FA-A0B6-2EF19359B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F29D4-BA3B-4E2C-A829-38BFA233D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2BBE4-39B0-4788-BFCF-33A3BED90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36DE4-3BBC-4FBA-AB8B-D3B0D39F1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F9B1-E1E5-4C2C-989B-2D72300D0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7519E-C843-4ACE-8A18-07195DC41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7E590-94E4-4E52-B8BD-5804F1DD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84B1-6C3E-4D87-A576-0AC5D6BD4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0940-854E-4B19-9206-02DEA1E51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4BDD-3B98-4D94-8D69-5E9632A8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C3EB-0E68-496B-8CB1-E33AF2E0B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B081-D2EB-4FF8-B147-14E30E8C4006}"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28EA-678E-486A-AEDA-7CDA47A5A66D}"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0464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ccecff"/>
                </a:solidFill>
                <a:latin typeface="Arial"/>
              </a:rPr>
              <a:t>Lądy i Wody</a:t>
            </a:r>
            <a:endParaRPr b="0" lang="en-US" sz="5400" spc="-1" strike="noStrike">
              <a:solidFill>
                <a:srgbClr val="ccecff"/>
              </a:solidFill>
              <a:latin typeface="Arial"/>
            </a:endParaRPr>
          </a:p>
        </p:txBody>
      </p:sp>
      <p:pic>
        <p:nvPicPr>
          <p:cNvPr id="157" name="Picture 5" descr="swiat_kontynenty_i_oceany"/>
          <p:cNvPicPr/>
          <p:nvPr/>
        </p:nvPicPr>
        <p:blipFill>
          <a:blip r:embed="rId1"/>
          <a:stretch/>
        </p:blipFill>
        <p:spPr>
          <a:xfrm>
            <a:off x="1403280" y="2133720"/>
            <a:ext cx="6048360" cy="383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Morze</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 </a:t>
            </a:r>
            <a:r>
              <a:rPr b="0" lang="pl-PL" sz="3200" spc="-1" strike="noStrike">
                <a:solidFill>
                  <a:srgbClr val="ffffff"/>
                </a:solidFill>
                <a:latin typeface="Verdana"/>
              </a:rPr>
              <a:t>naturalny zbiornik wodny, część oceanu, mniej lub bardziej wyraźnie oddzielona od pozostałych jego części brzegami kontynentu, wyspami lub wzniesieniem dna. Ze względu na utrudnioną wymianę wód morza charakteryzują się indywidualnymi cechami. Zbiór tych cech nazywa się ustrojem hydrologiczny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gólna powierzchnia mórz na Ziemi wynosi ok. 40 mln km² (co stanowi ok. 11% powierzchni oceanu światowego), liczba mórz na świecie wynosi 71 (nie licząc Morza Kaspijskiego i Morza Martwego, które są jeziorami słonym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Podział mórz</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0" y="1125360"/>
            <a:ext cx="8964720" cy="500544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u="sng">
                <a:solidFill>
                  <a:srgbClr val="ffffff"/>
                </a:solidFill>
                <a:uFillTx/>
                <a:latin typeface="Verdana"/>
              </a:rPr>
              <a:t>Podział ze względu na położenie:</a:t>
            </a:r>
            <a:endParaRPr b="0" lang="en-US" sz="36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Wyróżnia się </a:t>
            </a:r>
            <a:r>
              <a:rPr b="1" lang="pl-PL" sz="2800" spc="-1" strike="noStrike">
                <a:solidFill>
                  <a:srgbClr val="ffffff"/>
                </a:solidFill>
                <a:latin typeface="Verdana"/>
              </a:rPr>
              <a:t>morza przybrzeżne</a:t>
            </a:r>
            <a:r>
              <a:rPr b="0" lang="pl-PL" sz="2800" spc="-1" strike="noStrike">
                <a:solidFill>
                  <a:srgbClr val="ffffff"/>
                </a:solidFill>
                <a:latin typeface="Verdana"/>
              </a:rPr>
              <a:t>, które oddzielone są od oceanu łańcuchem wysp lub progiem podmorskim, a wymiana wód jest łatwa, oraz </a:t>
            </a:r>
            <a:r>
              <a:rPr b="1" lang="pl-PL" sz="2800" spc="-1" strike="noStrike">
                <a:solidFill>
                  <a:srgbClr val="ffffff"/>
                </a:solidFill>
                <a:latin typeface="Verdana"/>
              </a:rPr>
              <a:t>morza śródziemne</a:t>
            </a:r>
            <a:r>
              <a:rPr b="0" lang="pl-PL" sz="2800" spc="-1" strike="noStrike">
                <a:solidFill>
                  <a:srgbClr val="ffffff"/>
                </a:solidFill>
                <a:latin typeface="Verdana"/>
              </a:rPr>
              <a:t>, otoczone lądami, w których wymiana wód z oceanem następuje przez wąskie cieśnin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333360"/>
            <a:ext cx="9036000" cy="6524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Bardziej szczegółowo morza dzielimy n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otwarte</a:t>
            </a:r>
            <a:r>
              <a:rPr b="0" lang="pl-PL" sz="2400" spc="-1" strike="noStrike">
                <a:solidFill>
                  <a:srgbClr val="ffffff"/>
                </a:solidFill>
                <a:latin typeface="Verdana"/>
              </a:rPr>
              <a:t> – mające szerokie połączenie z oceanem, np. Morze Arabskie, Morze Norweskie, Morze Północne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Picture 4" descr="morze_otwarte"/>
          <p:cNvPicPr/>
          <p:nvPr/>
        </p:nvPicPr>
        <p:blipFill>
          <a:blip r:embed="rId1"/>
          <a:stretch/>
        </p:blipFill>
        <p:spPr>
          <a:xfrm>
            <a:off x="2484360" y="2565360"/>
            <a:ext cx="392760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179280" y="620640"/>
            <a:ext cx="8785440" cy="17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przybrzeżne</a:t>
            </a:r>
            <a:r>
              <a:rPr b="0" lang="pl-PL" sz="2800" spc="-1" strike="noStrike">
                <a:solidFill>
                  <a:srgbClr val="ffffff"/>
                </a:solidFill>
                <a:latin typeface="Verdana"/>
              </a:rPr>
              <a:t> – oddzielone od oceanu przez wyspy lub półwyspy, np. Morze Karskie, Morze Japońskie, Morze Południowochińskie </a:t>
            </a:r>
            <a:endParaRPr b="0" lang="en-US" sz="2800" spc="-1" strike="noStrike">
              <a:solidFill>
                <a:srgbClr val="ffffff"/>
              </a:solidFill>
              <a:latin typeface="Verdana"/>
            </a:endParaRPr>
          </a:p>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9" name="Picture 10" descr="600_wiki_morze_japonskie"/>
          <p:cNvPicPr/>
          <p:nvPr/>
        </p:nvPicPr>
        <p:blipFill>
          <a:blip r:embed="rId1"/>
          <a:stretch/>
        </p:blipFill>
        <p:spPr>
          <a:xfrm>
            <a:off x="1403280" y="227664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08000" y="692280"/>
            <a:ext cx="8712000" cy="106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wyspowe</a:t>
            </a:r>
            <a:r>
              <a:rPr b="0" lang="pl-PL" sz="1800" spc="-1" strike="noStrike">
                <a:solidFill>
                  <a:srgbClr val="ffffff"/>
                </a:solidFill>
                <a:latin typeface="Verdana"/>
              </a:rPr>
              <a:t> – </a:t>
            </a:r>
            <a:r>
              <a:rPr b="0" lang="pl-PL" sz="2400" spc="-1" strike="noStrike">
                <a:solidFill>
                  <a:srgbClr val="ffffff"/>
                </a:solidFill>
                <a:latin typeface="Verdana"/>
              </a:rPr>
              <a:t>położone wyłącznie między wyspami lub ich archipelagami, np. Morze Irlandzkie, Morze Celebes, Morze Jawajskie</a:t>
            </a:r>
            <a:r>
              <a:rPr b="0" lang="pl-PL" sz="2400" spc="-1" strike="noStrike">
                <a:solidFill>
                  <a:srgbClr val="ffffff"/>
                </a:solidFill>
                <a:latin typeface="Verdana"/>
              </a:rPr>
              <a:t> </a:t>
            </a:r>
            <a:endParaRPr b="0" lang="en-US" sz="2400" spc="-1" strike="noStrike">
              <a:solidFill>
                <a:srgbClr val="ffffff"/>
              </a:solidFill>
              <a:latin typeface="Verdana"/>
            </a:endParaRPr>
          </a:p>
        </p:txBody>
      </p:sp>
      <p:pic>
        <p:nvPicPr>
          <p:cNvPr id="181" name="Picture 9" descr="morze_miedzywyspowe"/>
          <p:cNvPicPr/>
          <p:nvPr/>
        </p:nvPicPr>
        <p:blipFill>
          <a:blip r:embed="rId1"/>
          <a:stretch/>
        </p:blipFill>
        <p:spPr>
          <a:xfrm>
            <a:off x="2411280" y="1844640"/>
            <a:ext cx="3759480" cy="479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3640" y="333000"/>
            <a:ext cx="84358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kontynentalne</a:t>
            </a:r>
            <a:r>
              <a:rPr b="0" lang="pl-PL" sz="2800" spc="-1" strike="noStrike">
                <a:solidFill>
                  <a:srgbClr val="ffffff"/>
                </a:solidFill>
                <a:latin typeface="Verdana"/>
              </a:rPr>
              <a:t> – leżące między kontynentami, np. Morze Śródziemne, Morze Czerwone, Morze Karaib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3" name="Picture 5" descr="srodziemne"/>
          <p:cNvPicPr/>
          <p:nvPr/>
        </p:nvPicPr>
        <p:blipFill>
          <a:blip r:embed="rId1"/>
          <a:stretch/>
        </p:blipFill>
        <p:spPr>
          <a:xfrm>
            <a:off x="3059280" y="1773360"/>
            <a:ext cx="320976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wewnątrzkontynentalne</a:t>
            </a:r>
            <a:r>
              <a:rPr b="0" lang="pl-PL" sz="2800" spc="-1" strike="noStrike">
                <a:solidFill>
                  <a:srgbClr val="ffffff"/>
                </a:solidFill>
                <a:latin typeface="Verdana"/>
              </a:rPr>
              <a:t> – leżące wewnątrz jednego kontynentu, np. Morze Bałtyckie, Morze Białe, Morze Azow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85" name="Picture 5" descr="30_mapka"/>
          <p:cNvPicPr/>
          <p:nvPr/>
        </p:nvPicPr>
        <p:blipFill>
          <a:blip r:embed="rId1"/>
          <a:stretch/>
        </p:blipFill>
        <p:spPr>
          <a:xfrm>
            <a:off x="2268360" y="2060640"/>
            <a:ext cx="4896000" cy="46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ccecff"/>
                </a:solidFill>
                <a:latin typeface="Arial"/>
              </a:rPr>
              <a:t>Linia brzegowa</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Granica między wodą a ląde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Plik:North Sea 01 ubt.jpeg"/>
          <p:cNvPicPr/>
          <p:nvPr/>
        </p:nvPicPr>
        <p:blipFill>
          <a:blip r:embed="rId1"/>
          <a:stretch/>
        </p:blipFill>
        <p:spPr>
          <a:xfrm>
            <a:off x="1258920" y="260280"/>
            <a:ext cx="6667560" cy="5000760"/>
          </a:xfrm>
          <a:prstGeom prst="rect">
            <a:avLst/>
          </a:prstGeom>
          <a:ln w="0">
            <a:noFill/>
          </a:ln>
        </p:spPr>
      </p:pic>
      <p:sp>
        <p:nvSpPr>
          <p:cNvPr id="189" name="Rectangle 8"/>
          <p:cNvSpPr/>
          <p:nvPr/>
        </p:nvSpPr>
        <p:spPr>
          <a:xfrm>
            <a:off x="2484360" y="573300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Verdana"/>
              </a:rPr>
              <a:t>Brzeg Morza Północneg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Ląd</a:t>
            </a:r>
            <a:r>
              <a:rPr b="0" lang="pl-PL" sz="3200" spc="-1" strike="noStrike">
                <a:solidFill>
                  <a:srgbClr val="ffffff"/>
                </a:solidFill>
                <a:latin typeface="Verdana"/>
              </a:rPr>
              <a:t> - obszar skorupy ziemskiej niepokryty wodami mórz i oceanów. Lądy zajmują około 29% powierzchni Ziemi, łącznie 149 milionów km². Dla większych, zwartych obszarów lądu przyjęto nazwę kontynent, mniejsze obszary lądu to wysp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Plik:India Landscape.jpg"/>
          <p:cNvPicPr/>
          <p:nvPr/>
        </p:nvPicPr>
        <p:blipFill>
          <a:blip r:embed="rId1"/>
          <a:stretch/>
        </p:blipFill>
        <p:spPr>
          <a:xfrm>
            <a:off x="684360" y="115920"/>
            <a:ext cx="7581600" cy="5715000"/>
          </a:xfrm>
          <a:prstGeom prst="rect">
            <a:avLst/>
          </a:prstGeom>
          <a:ln w="0">
            <a:noFill/>
          </a:ln>
        </p:spPr>
      </p:pic>
      <p:sp>
        <p:nvSpPr>
          <p:cNvPr id="191" name="Rectangle 6"/>
          <p:cNvSpPr/>
          <p:nvPr/>
        </p:nvSpPr>
        <p:spPr>
          <a:xfrm>
            <a:off x="2999160" y="6020640"/>
            <a:ext cx="286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Arabs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Plik:Jungmun Daepo Columnar Joints with waves crashing.jpg"/>
          <p:cNvPicPr/>
          <p:nvPr/>
        </p:nvPicPr>
        <p:blipFill>
          <a:blip r:embed="rId1"/>
          <a:stretch/>
        </p:blipFill>
        <p:spPr>
          <a:xfrm>
            <a:off x="826920" y="476280"/>
            <a:ext cx="7620120" cy="5095800"/>
          </a:xfrm>
          <a:prstGeom prst="rect">
            <a:avLst/>
          </a:prstGeom>
          <a:ln w="0">
            <a:noFill/>
          </a:ln>
        </p:spPr>
      </p:pic>
      <p:sp>
        <p:nvSpPr>
          <p:cNvPr id="193" name="Rectangle 6"/>
          <p:cNvSpPr/>
          <p:nvPr/>
        </p:nvSpPr>
        <p:spPr>
          <a:xfrm>
            <a:off x="3410280" y="5949360"/>
            <a:ext cx="247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Żółt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Plik:POL 2007 08 04 Jaroslawiec zachodniopomorskie 02.JPG"/>
          <p:cNvPicPr/>
          <p:nvPr/>
        </p:nvPicPr>
        <p:blipFill>
          <a:blip r:embed="rId1"/>
          <a:stretch/>
        </p:blipFill>
        <p:spPr>
          <a:xfrm>
            <a:off x="755640" y="189000"/>
            <a:ext cx="7620120" cy="5715000"/>
          </a:xfrm>
          <a:prstGeom prst="rect">
            <a:avLst/>
          </a:prstGeom>
          <a:ln w="0">
            <a:noFill/>
          </a:ln>
        </p:spPr>
      </p:pic>
      <p:sp>
        <p:nvSpPr>
          <p:cNvPr id="195" name="Rectangle 6"/>
          <p:cNvSpPr/>
          <p:nvPr/>
        </p:nvSpPr>
        <p:spPr>
          <a:xfrm>
            <a:off x="3220560" y="6165000"/>
            <a:ext cx="289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Bałtyc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Ocean</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u starożytnych Greków i Rzymian mityczna rzeka oblewająca cały świat, także nazwa jej boga – wielka część hydrosfery ziemskiej, stanowiąca rozległy obszar słonej wody. Wody słone pokrywają w sumie blisko 3/4 (70,8%) Ziemi. Powierzchnia oceanów wynosi ok. 361 mln km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Plik:Land ocean ice 2048.jpg"/>
          <p:cNvPicPr/>
          <p:nvPr/>
        </p:nvPicPr>
        <p:blipFill>
          <a:blip r:embed="rId1"/>
          <a:stretch/>
        </p:blipFill>
        <p:spPr>
          <a:xfrm>
            <a:off x="539640" y="765000"/>
            <a:ext cx="8209080" cy="4105440"/>
          </a:xfrm>
          <a:prstGeom prst="rect">
            <a:avLst/>
          </a:prstGeom>
          <a:ln w="0">
            <a:noFill/>
          </a:ln>
        </p:spPr>
      </p:pic>
      <p:sp>
        <p:nvSpPr>
          <p:cNvPr id="199" name="Rectangle 6"/>
          <p:cNvSpPr/>
          <p:nvPr/>
        </p:nvSpPr>
        <p:spPr>
          <a:xfrm>
            <a:off x="2987640" y="5515560"/>
            <a:ext cx="302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Verdana"/>
              </a:rPr>
              <a:t>Ocean światowy</a:t>
            </a:r>
            <a:r>
              <a:rPr b="0" lang="pl-PL"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Klasyfikacja oceanów</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y dzielimy n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Spokojny-178,7 mln km²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tlantycki-106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Indyjski-77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rktyczn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Południow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kontynenty"/>
          <p:cNvPicPr/>
          <p:nvPr/>
        </p:nvPicPr>
        <p:blipFill>
          <a:blip r:embed="rId1"/>
          <a:stretch/>
        </p:blipFill>
        <p:spPr>
          <a:xfrm>
            <a:off x="324000" y="907920"/>
            <a:ext cx="8605800" cy="472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Kontynent</a:t>
            </a:r>
            <a:r>
              <a:rPr b="0" lang="pl-PL" sz="3200" spc="-1" strike="noStrike">
                <a:solidFill>
                  <a:srgbClr val="ffffff"/>
                </a:solidFill>
                <a:latin typeface="Verdana"/>
              </a:rPr>
              <a:t> – podstawowa, obok oceanów, jednostka podziału świata. Odnosi się do olbrzymich pod względem powierzchni (rzędu kilku mln km2) obszarów lądu. Obejmuje przybrzeżne wyspy znajdujące się na tym samym cokole kontynentalny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20" y="-720"/>
            <a:ext cx="43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endParaRPr b="0" lang="en-US" sz="1800" spc="-1" strike="noStrike">
              <a:solidFill>
                <a:srgbClr val="ffffff"/>
              </a:solidFill>
              <a:latin typeface="Verdana"/>
            </a:endParaRPr>
          </a:p>
        </p:txBody>
      </p:sp>
      <p:pic>
        <p:nvPicPr>
          <p:cNvPr id="162" name="Picture 7" descr="300px-Continents_vide_couleurs"/>
          <p:cNvPicPr/>
          <p:nvPr/>
        </p:nvPicPr>
        <p:blipFill>
          <a:blip r:embed="rId1"/>
          <a:stretch/>
        </p:blipFill>
        <p:spPr>
          <a:xfrm>
            <a:off x="611280" y="115920"/>
            <a:ext cx="7777080" cy="3940200"/>
          </a:xfrm>
          <a:prstGeom prst="rect">
            <a:avLst/>
          </a:prstGeom>
          <a:ln w="0">
            <a:noFill/>
          </a:ln>
        </p:spPr>
      </p:pic>
      <p:sp>
        <p:nvSpPr>
          <p:cNvPr id="163" name="Rectangle 8"/>
          <p:cNvSpPr/>
          <p:nvPr/>
        </p:nvSpPr>
        <p:spPr>
          <a:xfrm>
            <a:off x="971640" y="4293000"/>
            <a:ext cx="6913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ffffff"/>
                </a:solidFill>
                <a:uFillTx/>
                <a:latin typeface="Verdana"/>
              </a:rPr>
              <a:t>Podział na kontynenty:</a:t>
            </a:r>
            <a:r>
              <a:rPr b="1" lang="pl-PL" sz="1800" spc="-1" strike="noStrike">
                <a:solidFill>
                  <a:srgbClr val="000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ffff00"/>
                </a:solidFill>
                <a:latin typeface="Verdana"/>
              </a:rPr>
              <a:t>Afryka-</a:t>
            </a:r>
            <a:r>
              <a:rPr b="0" lang="pl-PL" sz="1800" spc="-1" strike="noStrike">
                <a:solidFill>
                  <a:srgbClr val="ffffff"/>
                </a:solidFill>
                <a:latin typeface="Verdana"/>
              </a:rPr>
              <a:t>(30,31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6600"/>
                </a:solidFill>
                <a:latin typeface="Verdana"/>
              </a:rPr>
              <a:t>Ameryka Południowa-</a:t>
            </a:r>
            <a:r>
              <a:rPr b="0" lang="pl-PL" sz="1800" spc="-1" strike="noStrike">
                <a:solidFill>
                  <a:srgbClr val="ffffff"/>
                </a:solidFill>
                <a:latin typeface="Verdana"/>
              </a:rPr>
              <a:t>(17,8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ff00"/>
                </a:solidFill>
                <a:latin typeface="Verdana"/>
              </a:rPr>
              <a:t>Ameryka Północna-</a:t>
            </a:r>
            <a:r>
              <a:rPr b="0" lang="pl-PL" sz="1800" spc="-1" strike="noStrike">
                <a:solidFill>
                  <a:srgbClr val="ffffff"/>
                </a:solidFill>
                <a:latin typeface="Verdana"/>
              </a:rPr>
              <a:t>(24,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00ff"/>
                </a:solidFill>
                <a:latin typeface="Verdana"/>
              </a:rPr>
              <a:t>Antarktyda-</a:t>
            </a:r>
            <a:r>
              <a:rPr b="0" lang="pl-PL" sz="1800" spc="-1" strike="noStrike">
                <a:solidFill>
                  <a:srgbClr val="ffffff"/>
                </a:solidFill>
                <a:latin typeface="Verdana"/>
              </a:rPr>
              <a:t>(13,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990099"/>
                </a:solidFill>
                <a:latin typeface="Verdana"/>
              </a:rPr>
              <a:t>Australia-</a:t>
            </a:r>
            <a:r>
              <a:rPr b="0" lang="pl-PL" sz="1800" spc="-1" strike="noStrike">
                <a:solidFill>
                  <a:srgbClr val="ffffff"/>
                </a:solidFill>
                <a:latin typeface="Verdana"/>
              </a:rPr>
              <a:t>(7,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cc3300"/>
                </a:solidFill>
                <a:latin typeface="Verdana"/>
              </a:rPr>
              <a:t>Azja- </a:t>
            </a:r>
            <a:r>
              <a:rPr b="0" lang="pl-PL" sz="1800" spc="-1" strike="noStrike">
                <a:solidFill>
                  <a:srgbClr val="ffffff"/>
                </a:solidFill>
                <a:latin typeface="Verdana"/>
              </a:rPr>
              <a:t>(44,6 mln km²)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800000"/>
                </a:solidFill>
                <a:latin typeface="Verdana"/>
              </a:rPr>
              <a:t>Europa-</a:t>
            </a:r>
            <a:r>
              <a:rPr b="0" lang="pl-PL" sz="1800" spc="-1" strike="noStrike">
                <a:solidFill>
                  <a:srgbClr val="ffffff"/>
                </a:solidFill>
                <a:latin typeface="Verdana"/>
              </a:rPr>
              <a:t>(10,5 mln km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Wyspa</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Każdy z trwałych fragmentów lądowej powierzchni Ziemi, który jest otoczony ze wszystkich stron wodą oraz jest mniejszy powierzchniowo od Australii, a nie jest pojedynczą skałą. Wyspy istnieją więc na rzekach, jeziorach, stawach, morzach i oceanach. Mała wyspa to wysepka. Za wyspy nie uznaje się ruchomych ławic piaszczystych ani obszarów lądu zalewanych podczas przypływów.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Plik:Island near Fiji.jpg"/>
          <p:cNvPicPr/>
          <p:nvPr/>
        </p:nvPicPr>
        <p:blipFill>
          <a:blip r:embed="rId1"/>
          <a:stretch/>
        </p:blipFill>
        <p:spPr>
          <a:xfrm>
            <a:off x="108000" y="620640"/>
            <a:ext cx="8928000" cy="3262320"/>
          </a:xfrm>
          <a:prstGeom prst="rect">
            <a:avLst/>
          </a:prstGeom>
          <a:ln w="0">
            <a:noFill/>
          </a:ln>
        </p:spPr>
      </p:pic>
      <p:sp>
        <p:nvSpPr>
          <p:cNvPr id="167" name="Rectangle 6"/>
          <p:cNvSpPr/>
          <p:nvPr/>
        </p:nvSpPr>
        <p:spPr>
          <a:xfrm>
            <a:off x="2143080" y="4507920"/>
            <a:ext cx="486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Mała wyspa oceaniczna w archipelagu Fidżi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Archipelag</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Grupa wysp położonych blisko siebie, najczęściej o wspólnej genezie i podobnej budowie geologicznej.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Ze względu na ułożenie wysp można wyróżnić </a:t>
            </a:r>
            <a:r>
              <a:rPr b="0" i="1" lang="pl-PL" sz="2800" spc="-1" strike="noStrike">
                <a:solidFill>
                  <a:srgbClr val="ffffff"/>
                </a:solidFill>
                <a:latin typeface="Verdana"/>
              </a:rPr>
              <a:t>roje wysp</a:t>
            </a:r>
            <a:r>
              <a:rPr b="0" lang="pl-PL" sz="2800" spc="-1" strike="noStrike">
                <a:solidFill>
                  <a:srgbClr val="ffffff"/>
                </a:solidFill>
                <a:latin typeface="Verdana"/>
              </a:rPr>
              <a:t> - archipelagi składające się z bezładnie rozmieszczonych niedużych wysp oraz </a:t>
            </a:r>
            <a:r>
              <a:rPr b="0" i="1" lang="pl-PL" sz="2800" spc="-1" strike="noStrike">
                <a:solidFill>
                  <a:srgbClr val="ffffff"/>
                </a:solidFill>
                <a:latin typeface="Verdana"/>
              </a:rPr>
              <a:t>łańcuchy wysp</a:t>
            </a:r>
            <a:r>
              <a:rPr b="0" lang="pl-PL" sz="2800" spc="-1" strike="noStrike">
                <a:solidFill>
                  <a:srgbClr val="ffffff"/>
                </a:solidFill>
                <a:latin typeface="Verdana"/>
              </a:rPr>
              <a:t>, w których wyspy rozmieszczone są rzędem obok siebi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110cy"/>
          <p:cNvPicPr/>
          <p:nvPr/>
        </p:nvPicPr>
        <p:blipFill>
          <a:blip r:embed="rId1"/>
          <a:stretch/>
        </p:blipFill>
        <p:spPr>
          <a:xfrm>
            <a:off x="1692360" y="635040"/>
            <a:ext cx="6119640" cy="52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7:16:35Z</dcterms:created>
  <dc:creator>MICRON</dc:creator>
  <dc:description/>
  <dc:language>en-US</dc:language>
  <cp:lastModifiedBy>q</cp:lastModifiedBy>
  <dcterms:modified xsi:type="dcterms:W3CDTF">2013-03-16T14:18:00Z</dcterms:modified>
  <cp:revision>5</cp:revision>
  <dc:subject/>
  <dc:title>Lądy i Wody</dc:title>
</cp:coreProperties>
</file>